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225-0F3D-46A5-9C09-93580B91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C12-3B01-4186-BF95-D789281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7FD-8DED-4528-9DB6-C00FBA6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AB-72EC-454C-9DE8-3B49CC7C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A19-9312-4E20-9CB0-EEB6E06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C4A-9B1A-4EF4-BAA8-8FA3817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947-E9DF-4DFD-B484-C8B0EB6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E8F-2443-4440-B88A-29E51F90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C69-849C-4EF3-8EED-505BC06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8D3-058E-4197-A8F2-FB2754E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4E4-3544-479F-9757-D9519E1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B75-10B5-4E0C-BF28-32E2765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802-8BAC-42AC-8249-2A972D22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Copy the following into your Essay s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 Bold"/>
                <a:ea typeface="SimSun"/>
              </a:rPr>
              <a:t>POWER is for Conclusions --- Start by restating your thesis then.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P- positive and negative effect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O- opinion ( Don’t say I think—state your opinion as fac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W- WWJLS?  What would John Locke say?  Or any other historical figur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E- examples (refer back to your examples in your essa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  <a:ea typeface="SimSun"/>
              </a:rPr>
              <a:t>R- relate back to to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im:  What caused the USA to enter the war?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Copy your vocabulary into your gloss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9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tal War: when all aspects of a country’s production is put towards war effo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0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restricted Submarine Warfare:  where  submarines would sink merchant ships with out warning instead of battle 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immerman telegram: secret message that pushed the USA into WW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ning: controlled distribution of scarce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arations: debts owed from losing countries in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life like in Euro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tal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aused many jobs to be empty(men were at w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ecrease in food production which left many hung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ore women were able to work in factories and other business (was a positive step for women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ue to the scarce food ration stamps were provided to pass out major supp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d the USA to enter the wa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fficially, the U.S. was a 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ountry. However, we traded food, weapons, oil, steel, and other goods far more with the Allied Powers than with the Central Power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rman submarines, called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U-boa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orpedoed enemy ships and neutral ships trading with the ene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1915, a German submarine torpedoed the </a:t>
            </a:r>
            <a:r>
              <a:rPr b="0" i="1" lang="en-US" sz="2500" spc="-1" strike="noStrike" u="sng">
                <a:solidFill>
                  <a:srgbClr val="0000ff"/>
                </a:solidFill>
                <a:uFillTx/>
                <a:latin typeface="Comic Sans MS"/>
              </a:rPr>
              <a:t>Lusitani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, a British passenger ship, killing approximately 1,200 people, including 128 Ameri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mericans were infuriated with the destruction of the 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Lusitania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7820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oward War:  Zimmerman Tele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a secret message from Germany to Mexico urging Mexico to attack the U.S. if the U.S. declared war on 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promised to help Mexico regain land it lost to the U.S. in the Mexican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.S. declared war on the Central Powers in 19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3886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8:52:54Z</dcterms:created>
  <dc:creator>NYCDOE</dc:creator>
  <dc:description/>
  <dc:language>en-US</dc:language>
  <cp:lastModifiedBy>NYCDOE</cp:lastModifiedBy>
  <dcterms:modified xsi:type="dcterms:W3CDTF">2012-01-12T19:22:57Z</dcterms:modified>
  <cp:revision>1</cp:revision>
  <dc:subject/>
  <dc:title>Copy the following into your Essay section</dc:title>
</cp:coreProperties>
</file>